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75F2-D946-4E12-ACB1-43565BDB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1F6-09BA-4606-9197-63A6E369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282-1B5E-49AB-954E-390888EB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(Input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DF5C-1678-4699-8DB2-17D096FD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Megan in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Sarah in haircuts and Megan in 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Justin in flats.  Kevin and Justin share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Justin in flats and Tim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Kevin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Kevin in dishes.  Hannah in vacu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Americans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American in computers and China in T.V.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ABE-35A7-4DC8-B1F6-A784B2CA5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547-7524-4852-8F4A-C6ECF17B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98B-76C5-4337-A6E2-295087E3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B1052-1D47-4AAA-866E-7B42E019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2F43-7B1A-4C48-A491-5A67DCA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FB93C-39E2-491E-8EAA-8E4D7056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59C96-EB2B-4CDC-A4BC-A8BF5DD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1DABC-B0F4-42FE-B2B7-FC4C061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08FD-5201-463B-A2AF-1A157B7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E4294-E7E6-470D-8985-1575E72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F6CE0-A50E-4B62-BD3A-9C645A53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891B0-B77D-4995-8392-49D0E3F8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86D50-D36A-48FF-95F4-AC519A06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7FF-AD5E-49A7-82B7-19840120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44A5E-9DD6-4C4D-9E9F-604F575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4815C-6230-45ED-B668-07775D58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61837-C5CD-45D3-B938-8BD30D29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B0357-518F-443A-8254-4ADFB91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CD75-8A3D-4AEE-B1E6-A5DB42FD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CFAE3-2A8E-4D4B-A575-F8DBB7E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C2782-7BDE-4744-BFE9-1902E2AC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5E4C9-D338-4755-A6BA-F6392A6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6565-A26B-4435-B3C7-77865793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1D428-CE11-4FD1-8427-F9CE01AD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8DC-F38C-4E26-94EC-44C832F2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8753E-A29F-4E53-9A4C-8EAB526E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B084B-74B9-4346-8A67-6EF98C36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1B607-8EFD-459C-821F-EA695746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9396-C290-4553-B475-50E98787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D923-38D3-42F5-ACCD-0D30876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AABF-FD86-4685-A787-35B531D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01F0-7F35-40E1-AC41-5FBE612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DF02-F452-4B27-B5D3-923EDBED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799B-A0F2-430B-B372-3D8D7FE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9F2C-31CB-448B-ACBE-E558CD5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B33-D129-4B49-8302-7B60A740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8169-9E05-4B91-929E-2444369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5045-07F1-4981-9CD5-BEA17D42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0E9B-FD3A-4DF2-B604-2E182FF7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9797A-E344-4E60-9B7F-C329DB3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F1B18-CFB7-4D63-9CC7-BA14E51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FA1D4-8147-4B47-BFEB-715348BC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4B604-000E-4550-B08A-3A5B268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5D52B-1452-4C00-B7F8-839A23B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344E7-D9CA-4737-B53D-85FED0C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5F877-21ED-4DF3-8B1E-3797AF9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074-58BF-4984-A142-81E5F95B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1642D-E618-4FD9-B0A5-D587678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7D534-C010-4546-BDDC-4FC5CEC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C883-CDBE-4071-A06D-AEEB613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43645-2545-4FA8-AAE4-0288EFD6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5FDD7-79BB-49A0-9FF3-2302963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D9CB-C579-4FEF-8B54-DF1BB58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36BE-1208-4CD0-993C-91C45C0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C84-2170-4B78-9C3F-B813D24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78A-78CA-4AA7-A067-B503285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6A3-F829-43E8-8344-C6DE159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754-3760-46A1-88B4-CB5EFC6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361-7B34-447D-8ECE-9D9BBBF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46F2-8176-4604-A7CB-FA473C3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6E7B-B2AA-42DA-98D2-DEDDD75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BC02-D893-42B0-A722-C8DD6721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D08-D829-4D99-BA96-9E2E77FF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D8AB-1B5C-4DCF-89C2-7E119FCF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1C83-01A8-4C73-B3B8-E135C62C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BE52-8D7A-49BC-AB39-43BF6F9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A20B-9CA8-45F0-8E66-32CB7CC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5671-B88D-4F94-B89C-6BF8F9C4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189-96C5-46FD-8A15-52E4E92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D9A4-E984-4E36-968B-EC293D4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39AD-5478-4B80-AC49-EC4202C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7317-4C1B-4E9E-92FB-ED32EF7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AE76-DB45-4867-9EF4-72F3DCA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72FE-4759-4C2E-A3FA-2D32DDD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D78D-A4E5-4DF1-9169-C7DD4BE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325B-5FFD-4BBC-9EAF-0D72D482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70B6-01B2-48BF-A3EE-435FB4C8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EFEF-2858-4534-BD96-70D7FD7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8AEA-C8BA-4CC0-949C-247C772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E54-47BB-453D-B78E-C073922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6B23-B0C1-41E8-911B-93ACF968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EE5F-5CCA-4E1E-B043-71217F7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D929-8F95-495C-A540-F06E966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DF91-1771-4769-80B2-1A70571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B4B1-CCDE-4FB4-97E8-419DFFE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785C-5CE3-49A7-A5CC-C8C0C2D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1156-DD37-4CA4-9F7F-FC4CCD57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D3C4-42A6-46DB-A5AD-0477E855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FB7E-FB69-472A-8E06-E80475B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CB8C-80ED-4E8F-B73B-A70F8702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DA9-AA92-4F0F-8CE9-E9402F3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3437-96E8-4B1F-8460-23E478B7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B322-6215-49AA-8DC0-7ED93F1B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760A-133A-497B-849E-1AAC67FE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3275-262E-4CC8-AC9F-99FD00F4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478A-EA1A-455F-9667-2566F61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0F2E-3E59-48AA-A448-6B9AA9F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93F70-8E0A-488D-A708-3DAB5B8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5CE1-61EB-4C51-9712-0916B6A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8C41-5A55-4FD0-A0DB-4A6065B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D1760-5586-446A-AF22-D47F42C5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4F8-C03C-48D8-A080-EC78E078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BD85-464A-4F64-B4BF-51BC2A81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C515-1684-4548-993D-619E91E8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0595-EE76-4DAD-8930-BADA4B24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BDD9-D453-4E6C-B95C-E2248716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FD84-1CE6-4DA1-803A-AE9D47B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FA1C5-6BF3-4774-BD8B-9E75373E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7690-099C-4286-AE4C-0140FCFE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831B-5512-4AF6-8884-F91133B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026E-B303-4728-ADBB-2A743A9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2FFF-313C-4520-AF64-26802BD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658-AEDE-479E-BB2B-E9D15DA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9ABB-8D85-4E75-A1F7-5713776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7BB1-F07F-41F9-B64B-B41FDEBE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C841-E24A-48DC-99B7-B735CF11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87DF3-34C0-4E7C-A4D5-24C3DF1D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BED5-8D9D-4337-8D5D-0323C3DA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345EA-1740-4923-A317-04C329C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889F6-3398-4C75-825C-4C9864F6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4193-6B44-4206-B64E-109A712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A7AE9-918A-4923-88C9-D087F4ED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637C-F68F-42D3-BA1F-435B7B6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C33-AD59-442C-86A0-ECC816D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DF90-3B56-48D1-AB9C-C008A20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62F5-0FB2-494F-B788-26688C8B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C03F-494B-40A4-BFA2-68CFDBA9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7DCE-46D8-463F-8944-36360E38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B0ADC-2FC8-4E68-80ED-EDA15FE7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7DC1-C7E2-4532-8C2C-310D1922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373B-FF6E-4783-95B9-80AC230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FB1C-C8B8-49B0-BA80-3EE86B4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40CC9-35E5-4AC6-9115-4BF4CB5B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1FDB-637F-4BD5-86CB-E9B4E3D7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737-D502-4AB5-81F8-E3D7359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A638D-4527-4987-9529-3B17E6E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79240-1F33-44FF-9792-8E74497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1827-CA35-4C56-8B75-5530284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A5AC4-99A3-4007-A1F6-AB06791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EEB0-74C8-4B86-BC29-DB4D6B8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F44A-4D22-4E5D-A865-F0FB080B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0A28-3D95-47F2-ADAD-C5B8ED11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54A61-A5D4-41AC-89E0-F8673401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7F964-9516-4D3C-B6E2-4863402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64CF3-72B9-4715-BC2A-5CF14A64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9F5-F5B7-433B-B43A-C03B21F2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8D4-CEFF-45EA-8291-2132479D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69E5-7571-4BF4-B896-C24A0F1C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E8B-1848-496A-917C-B2A6D0B4C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F8FA-E438-430D-A8F0-60413CB6D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28F-FB13-44DD-BC7B-519F15E1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A03A-097D-4D61-A311-AE9428412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CD97-6D3B-4F37-B173-46A71ED5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EBA-47E9-40CD-A803-36AC76309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2D5-D0B5-4523-9563-5806C73C6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5B35-4775-4EB2-8F82-CA38EF1B4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F6E-83AC-4642-911B-B388E28A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 5: 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calvin faces"/>
          <p:cNvPicPr/>
          <p:nvPr/>
        </p:nvPicPr>
        <p:blipFill>
          <a:blip r:embed="rId1"/>
          <a:stretch/>
        </p:blipFill>
        <p:spPr>
          <a:xfrm>
            <a:off x="2438280" y="2133720"/>
            <a:ext cx="422748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B751-FC2E-464E-B164-36E69F565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26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28"/>
          <p:cNvSpPr/>
          <p:nvPr/>
        </p:nvSpPr>
        <p:spPr>
          <a:xfrm>
            <a:off x="563580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029"/>
          <p:cNvSpPr/>
          <p:nvPr/>
        </p:nvSpPr>
        <p:spPr>
          <a:xfrm>
            <a:off x="207648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030"/>
          <p:cNvGrpSpPr/>
          <p:nvPr/>
        </p:nvGrpSpPr>
        <p:grpSpPr>
          <a:xfrm>
            <a:off x="1447920" y="1663560"/>
            <a:ext cx="6854760" cy="5194080"/>
            <a:chOff x="1447920" y="1663560"/>
            <a:chExt cx="6854760" cy="5194080"/>
          </a:xfrm>
        </p:grpSpPr>
        <p:sp>
          <p:nvSpPr>
            <p:cNvPr id="564" name="Rectangle 1031"/>
            <p:cNvSpPr/>
            <p:nvPr/>
          </p:nvSpPr>
          <p:spPr>
            <a:xfrm rot="16200000">
              <a:off x="865080" y="394380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032"/>
            <p:cNvSpPr/>
            <p:nvPr/>
          </p:nvSpPr>
          <p:spPr>
            <a:xfrm rot="16200000">
              <a:off x="4322520" y="392976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33"/>
            <p:cNvSpPr/>
            <p:nvPr/>
          </p:nvSpPr>
          <p:spPr>
            <a:xfrm>
              <a:off x="1722960" y="1663560"/>
              <a:ext cx="367200" cy="47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34"/>
            <p:cNvSpPr/>
            <p:nvPr/>
          </p:nvSpPr>
          <p:spPr>
            <a:xfrm>
              <a:off x="5250600" y="3133440"/>
              <a:ext cx="367200" cy="32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035"/>
            <p:cNvSpPr/>
            <p:nvPr/>
          </p:nvSpPr>
          <p:spPr>
            <a:xfrm>
              <a:off x="2302920" y="6252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036"/>
            <p:cNvSpPr/>
            <p:nvPr/>
          </p:nvSpPr>
          <p:spPr>
            <a:xfrm>
              <a:off x="5893920" y="626580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037"/>
            <p:cNvSpPr/>
            <p:nvPr/>
          </p:nvSpPr>
          <p:spPr>
            <a:xfrm>
              <a:off x="260604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38"/>
            <p:cNvSpPr/>
            <p:nvPr/>
          </p:nvSpPr>
          <p:spPr>
            <a:xfrm>
              <a:off x="607968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Group 1039"/>
            <p:cNvGrpSpPr/>
            <p:nvPr/>
          </p:nvGrpSpPr>
          <p:grpSpPr>
            <a:xfrm>
              <a:off x="5589720" y="1747800"/>
              <a:ext cx="2712960" cy="4519080"/>
              <a:chOff x="5589720" y="1747800"/>
              <a:chExt cx="2712960" cy="4519080"/>
            </a:xfrm>
          </p:grpSpPr>
          <p:sp>
            <p:nvSpPr>
              <p:cNvPr id="573" name="Line 1040"/>
              <p:cNvSpPr/>
              <p:nvPr/>
            </p:nvSpPr>
            <p:spPr>
              <a:xfrm>
                <a:off x="5629320" y="1747800"/>
                <a:ext cx="0" cy="451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1041"/>
              <p:cNvSpPr/>
              <p:nvPr/>
            </p:nvSpPr>
            <p:spPr>
              <a:xfrm>
                <a:off x="5589720" y="6253920"/>
                <a:ext cx="2712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1042"/>
            <p:cNvGrpSpPr/>
            <p:nvPr/>
          </p:nvGrpSpPr>
          <p:grpSpPr>
            <a:xfrm>
              <a:off x="2046240" y="1728720"/>
              <a:ext cx="3019320" cy="4555800"/>
              <a:chOff x="2046240" y="1728720"/>
              <a:chExt cx="3019320" cy="4555800"/>
            </a:xfrm>
          </p:grpSpPr>
          <p:sp>
            <p:nvSpPr>
              <p:cNvPr id="576" name="Line 1043"/>
              <p:cNvSpPr/>
              <p:nvPr/>
            </p:nvSpPr>
            <p:spPr>
              <a:xfrm>
                <a:off x="2073240" y="1728720"/>
                <a:ext cx="0" cy="455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4"/>
              <p:cNvSpPr/>
              <p:nvPr/>
            </p:nvSpPr>
            <p:spPr>
              <a:xfrm>
                <a:off x="2046240" y="6244920"/>
                <a:ext cx="3019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0" y="1380960"/>
          <a:ext cx="1371600" cy="5477040"/>
        </p:xfrm>
        <a:graphic>
          <a:graphicData uri="http://schemas.openxmlformats.org/drawingml/2006/table">
            <a:tbl>
              <a:tblPr/>
              <a:tblGrid>
                <a:gridCol w="73188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7772400" y="1380960"/>
          <a:ext cx="1371600" cy="474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1145"/>
          <p:cNvSpPr/>
          <p:nvPr/>
        </p:nvSpPr>
        <p:spPr>
          <a:xfrm>
            <a:off x="1981080" y="251460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US Specializes and makes ONLY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146"/>
          <p:cNvSpPr/>
          <p:nvPr/>
        </p:nvSpPr>
        <p:spPr>
          <a:xfrm>
            <a:off x="5562720" y="251460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razil Makes ONLY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23C-9997-4206-9DC4-422B0442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027"/>
          <p:cNvSpPr/>
          <p:nvPr/>
        </p:nvSpPr>
        <p:spPr>
          <a:xfrm>
            <a:off x="1576440" y="762120"/>
            <a:ext cx="59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rade: 1 Wheat for 1.5 Su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1667880" y="78732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HIFTS THE PPC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558792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202896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2"/>
          <p:cNvSpPr/>
          <p:nvPr/>
        </p:nvSpPr>
        <p:spPr>
          <a:xfrm rot="16200000">
            <a:off x="817200" y="39441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3"/>
          <p:cNvSpPr/>
          <p:nvPr/>
        </p:nvSpPr>
        <p:spPr>
          <a:xfrm rot="16200000">
            <a:off x="4275000" y="3929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4"/>
          <p:cNvSpPr/>
          <p:nvPr/>
        </p:nvSpPr>
        <p:spPr>
          <a:xfrm>
            <a:off x="1675440" y="1663560"/>
            <a:ext cx="367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5"/>
          <p:cNvSpPr/>
          <p:nvPr/>
        </p:nvSpPr>
        <p:spPr>
          <a:xfrm>
            <a:off x="5202720" y="3133800"/>
            <a:ext cx="3672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2255400" y="6253200"/>
            <a:ext cx="260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    25 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5846400" y="6265800"/>
            <a:ext cx="170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2857680" y="26067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6284880" y="40989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 flipH="1">
            <a:off x="3333600" y="3300480"/>
            <a:ext cx="735120" cy="608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>
            <a:off x="6302520" y="4700520"/>
            <a:ext cx="644400" cy="59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255816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3"/>
          <p:cNvSpPr/>
          <p:nvPr/>
        </p:nvSpPr>
        <p:spPr>
          <a:xfrm>
            <a:off x="603180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5581800" y="4265640"/>
            <a:ext cx="1198440" cy="1982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5"/>
          <p:cNvGrpSpPr/>
          <p:nvPr/>
        </p:nvGrpSpPr>
        <p:grpSpPr>
          <a:xfrm>
            <a:off x="5541840" y="1747800"/>
            <a:ext cx="2712960" cy="4519440"/>
            <a:chOff x="5541840" y="1747800"/>
            <a:chExt cx="2712960" cy="4519440"/>
          </a:xfrm>
        </p:grpSpPr>
        <p:sp>
          <p:nvSpPr>
            <p:cNvPr id="605" name="Line 26"/>
            <p:cNvSpPr/>
            <p:nvPr/>
          </p:nvSpPr>
          <p:spPr>
            <a:xfrm>
              <a:off x="5581440" y="1747800"/>
              <a:ext cx="0" cy="451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5541840" y="6254280"/>
              <a:ext cx="2712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Line 28"/>
          <p:cNvSpPr/>
          <p:nvPr/>
        </p:nvSpPr>
        <p:spPr>
          <a:xfrm flipH="1" flipV="1">
            <a:off x="2021040" y="1865160"/>
            <a:ext cx="2673360" cy="439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1998720" y="1728720"/>
            <a:ext cx="3019320" cy="4555800"/>
            <a:chOff x="1998720" y="1728720"/>
            <a:chExt cx="3019320" cy="4555800"/>
          </a:xfrm>
        </p:grpSpPr>
        <p:sp>
          <p:nvSpPr>
            <p:cNvPr id="609" name="Line 30"/>
            <p:cNvSpPr/>
            <p:nvPr/>
          </p:nvSpPr>
          <p:spPr>
            <a:xfrm>
              <a:off x="2025720" y="1728720"/>
              <a:ext cx="0" cy="455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1"/>
            <p:cNvSpPr/>
            <p:nvPr/>
          </p:nvSpPr>
          <p:spPr>
            <a:xfrm>
              <a:off x="1998720" y="6244920"/>
              <a:ext cx="30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Rectangle 32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933-A048-4769-B98F-13CBF4C2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3"/>
          <p:cNvSpPr/>
          <p:nvPr/>
        </p:nvSpPr>
        <p:spPr>
          <a:xfrm>
            <a:off x="5334120" y="4952880"/>
            <a:ext cx="838080" cy="129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2133720" y="4267080"/>
            <a:ext cx="2590560" cy="1981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1523880" y="2590920"/>
            <a:ext cx="6264000" cy="4187880"/>
            <a:chOff x="1523880" y="2590920"/>
            <a:chExt cx="6264000" cy="4187880"/>
          </a:xfrm>
        </p:grpSpPr>
        <p:sp>
          <p:nvSpPr>
            <p:cNvPr id="620" name="Rectangle 6"/>
            <p:cNvSpPr/>
            <p:nvPr/>
          </p:nvSpPr>
          <p:spPr>
            <a:xfrm rot="16200000">
              <a:off x="941040" y="41968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 rot="16200000">
              <a:off x="4100400" y="41842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1775160" y="2590920"/>
              <a:ext cx="36720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9"/>
            <p:cNvSpPr/>
            <p:nvPr/>
          </p:nvSpPr>
          <p:spPr>
            <a:xfrm>
              <a:off x="4998960" y="3754440"/>
              <a:ext cx="367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2306160" y="6225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5587560" y="623304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2"/>
            <p:cNvSpPr/>
            <p:nvPr/>
          </p:nvSpPr>
          <p:spPr>
            <a:xfrm>
              <a:off x="2581920" y="641412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5756400" y="641556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5308920" y="2657520"/>
              <a:ext cx="2478960" cy="3578040"/>
              <a:chOff x="5308920" y="2657520"/>
              <a:chExt cx="2478960" cy="357804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344920" y="2657520"/>
                <a:ext cx="0" cy="3578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5308920" y="6225120"/>
                <a:ext cx="2478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17"/>
            <p:cNvGrpSpPr/>
            <p:nvPr/>
          </p:nvGrpSpPr>
          <p:grpSpPr>
            <a:xfrm>
              <a:off x="2070360" y="2642400"/>
              <a:ext cx="2759400" cy="3607200"/>
              <a:chOff x="2070360" y="2642400"/>
              <a:chExt cx="2759400" cy="3607200"/>
            </a:xfrm>
          </p:grpSpPr>
          <p:sp>
            <p:nvSpPr>
              <p:cNvPr id="632" name="Line 18"/>
              <p:cNvSpPr/>
              <p:nvPr/>
            </p:nvSpPr>
            <p:spPr>
              <a:xfrm>
                <a:off x="2094840" y="2642400"/>
                <a:ext cx="0" cy="360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9"/>
              <p:cNvSpPr/>
              <p:nvPr/>
            </p:nvSpPr>
            <p:spPr>
              <a:xfrm>
                <a:off x="2070360" y="6217920"/>
                <a:ext cx="2759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52"/>
          <p:cNvSpPr/>
          <p:nvPr/>
        </p:nvSpPr>
        <p:spPr>
          <a:xfrm>
            <a:off x="1908000" y="9144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3"/>
          <p:cNvSpPr/>
          <p:nvPr/>
        </p:nvSpPr>
        <p:spPr>
          <a:xfrm>
            <a:off x="1829880" y="1523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4"/>
          <p:cNvSpPr/>
          <p:nvPr/>
        </p:nvSpPr>
        <p:spPr>
          <a:xfrm>
            <a:off x="3888720" y="22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5"/>
          <p:cNvSpPr/>
          <p:nvPr/>
        </p:nvSpPr>
        <p:spPr>
          <a:xfrm>
            <a:off x="6708240" y="228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6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57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59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60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1"/>
          <p:cNvSpPr/>
          <p:nvPr/>
        </p:nvSpPr>
        <p:spPr>
          <a:xfrm>
            <a:off x="35827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1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2"/>
          <p:cNvSpPr/>
          <p:nvPr/>
        </p:nvSpPr>
        <p:spPr>
          <a:xfrm>
            <a:off x="63259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3"/>
          <p:cNvSpPr/>
          <p:nvPr/>
        </p:nvSpPr>
        <p:spPr>
          <a:xfrm>
            <a:off x="3430080" y="1523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2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64"/>
          <p:cNvSpPr/>
          <p:nvPr/>
        </p:nvSpPr>
        <p:spPr>
          <a:xfrm>
            <a:off x="6249600" y="1523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/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65"/>
          <p:cNvSpPr/>
          <p:nvPr/>
        </p:nvSpPr>
        <p:spPr>
          <a:xfrm>
            <a:off x="383400" y="213372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ich country has a comparative advantage in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7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8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69"/>
          <p:cNvSpPr/>
          <p:nvPr/>
        </p:nvSpPr>
        <p:spPr>
          <a:xfrm>
            <a:off x="938520" y="3200400"/>
            <a:ext cx="694584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Sug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Whe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IMPORT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4B6-B793-4AA5-8CAE-A3CED19A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533412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7772400" y="5105520"/>
            <a:ext cx="1204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http://www.ih.k12.oh.us/hsslonim/AP_Economics/MacVisual/6-2.ht11.gif"/>
          <p:cNvPicPr/>
          <p:nvPr/>
        </p:nvPicPr>
        <p:blipFill>
          <a:blip r:embed="rId1"/>
          <a:srcRect l="0" t="7958" r="0" b="0"/>
          <a:stretch/>
        </p:blipFill>
        <p:spPr>
          <a:xfrm>
            <a:off x="0" y="304920"/>
            <a:ext cx="6443640" cy="655308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4791600" y="2590920"/>
            <a:ext cx="4347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ut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AA73-DCF7-439D-BAD9-0806E89C1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3" descr="http://www.ih.k12.oh.us/hsslonim/AP_Economics/MacVisual/6-3.ht12.gif"/>
          <p:cNvPicPr/>
          <p:nvPr/>
        </p:nvPicPr>
        <p:blipFill>
          <a:blip r:embed="rId1"/>
          <a:srcRect l="0" t="7259" r="0" b="10660"/>
          <a:stretch/>
        </p:blipFill>
        <p:spPr>
          <a:xfrm>
            <a:off x="0" y="380880"/>
            <a:ext cx="5913360" cy="586764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4"/>
          <p:cNvSpPr/>
          <p:nvPr/>
        </p:nvSpPr>
        <p:spPr>
          <a:xfrm>
            <a:off x="4691880" y="2414520"/>
            <a:ext cx="43653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U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CB16-1605-4EB7-95DE-BEC67D90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FRQ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5"/>
          <p:cNvSpPr/>
          <p:nvPr/>
        </p:nvSpPr>
        <p:spPr>
          <a:xfrm>
            <a:off x="152280" y="31147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n absolute advantage in the production of tractors? Explain how you determine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n absolute advantage in the production of cars? Explain how you determine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 comparative advantage in the production of cars? Use the concept of opportunity cost to explain how you determined your ans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Xanadu, what is the opportunity cost of producing on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two countries specialize and trade with each other, which country will import cars? Explain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0"/>
            <a:ext cx="43434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 Point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152280" y="1371600"/>
            <a:ext cx="8991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Xan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y can produce more total tractors than Atlan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tlan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y can produce more total cars than Xanad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5"/>
          <p:cNvSpPr/>
          <p:nvPr/>
        </p:nvSpPr>
        <p:spPr>
          <a:xfrm>
            <a:off x="152280" y="914400"/>
            <a:ext cx="8991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Atlan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 opportunity cost for Atlantis to make one car is 1/3 a tractor which is less than then the opportunity cost for Xanadu (1 car =2 tractor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Opportunity Costs is 2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o explanation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5"/>
          <p:cNvSpPr/>
          <p:nvPr/>
        </p:nvSpPr>
        <p:spPr>
          <a:xfrm>
            <a:off x="152280" y="1143000"/>
            <a:ext cx="8991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Xanadu will import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anadu should not make cars. They should specialize in making tractors and import cars from Atlantis since they have a lower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85800" y="2666880"/>
            <a:ext cx="76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A9E4-1875-4D0C-BB9E-BE7FF9815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91440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 of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6423-FA8D-46B5-970D-08BF7A93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304920" y="152280"/>
          <a:ext cx="8305200" cy="1905120"/>
        </p:xfrm>
        <a:graphic>
          <a:graphicData uri="http://schemas.openxmlformats.org/drawingml/2006/table">
            <a:tbl>
              <a:tblPr/>
              <a:tblGrid>
                <a:gridCol w="276804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16034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30960" y="1523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228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5440" y="22860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3080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25920" y="9651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31160" y="1523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49960" y="1523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320" y="2209680"/>
            <a:ext cx="9067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nya wants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eater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3 pineapples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ny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radio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a wants Pineap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1 pineapple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di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pineapple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erms of trade benefit both countries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76320" y="2438280"/>
            <a:ext cx="90676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ing 1 radio for 2 pineapples will benefi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Kenya produces radios by themselves, they give up 3 Pineapples for each radio. If they can trade 2 pineapples for each radio they are better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India produces pineapples by themselves, they give up 1 pineapple for one radio. If they can get 2 pineapples for one radio they are bette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ies trade at a lower opportunity cost than if they made the products themselv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457200" y="304920"/>
          <a:ext cx="8305560" cy="190476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167976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83240" y="16765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38088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380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022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454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588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540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3080" y="11430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78560" y="11174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3440" y="16765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2240" y="16765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838080"/>
            <a:ext cx="289584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152388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448200" y="0"/>
            <a:ext cx="814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rative Advant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673200"/>
            <a:ext cx="90676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reate a chart for each of the following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rst- Identify if it is a output or input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cond-Identify who has the 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ird-Identify who has a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urth- Identify how they should spec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ara gives 2 haircuts or 1 perm and hour. Megan gives 3 haircuts or 2 perms per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Justin fixes 16 flats or 8 brakes per day. Tim fixes 14 flats or 8 brakes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Hannah takes 30 minutes to wash dishes and 1 hour to vacuum the house. Kevin takes 15 minutes to wash dishes and 45 minutes to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ericans produce 50 computers or 50 TVs per hour. Chinese produce 30 computers or 40 TVs per ho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5F9-537E-4A56-9959-DEC7F0DA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15042" t="19356" r="7692" b="6856"/>
          <a:stretch/>
        </p:blipFill>
        <p:spPr>
          <a:xfrm>
            <a:off x="152280" y="990720"/>
            <a:ext cx="8839440" cy="47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6" name=""/>
          <p:cNvSpPr/>
          <p:nvPr/>
        </p:nvSpPr>
        <p:spPr>
          <a:xfrm>
            <a:off x="8305920" y="2362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1447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816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4114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162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38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38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2209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1905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763120" y="4267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67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20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re does your stuff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Check the tags on your clothes, shoes, watch, calculator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5867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have your clothes and personal items traveled all around the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304920" y="0"/>
            <a:ext cx="861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152280" y="838080"/>
            <a:ext cx="899172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 people didn’t trade. What things would you have to go with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erything you don’t produce yoursel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lothes, car, cell phone, bananas, heath 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Everyone specializes in the production of goods and services and trades it to oth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life be like if cities couldn’t trade with cities or states couldn’t trade with s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imiting trade would reduce people’s choices and makes the worse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More access to trade means more choices and a higher standard of liv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1CE-683E-46AB-BD13-A39C61AD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80880" y="2666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and Comparative Advan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3E9E-540E-4D90-8B60-7487BF9F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6"/>
          <p:cNvSpPr/>
          <p:nvPr/>
        </p:nvSpPr>
        <p:spPr>
          <a:xfrm>
            <a:off x="152280" y="1600200"/>
            <a:ext cx="8991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it costs you $50 to produce 5 t-shirts. What is your PER UNIT cost for each shir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per shi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w, take money our of the equation. Instead of producing 5 shirts you could have made 10 h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shirt in terms of ha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shirt costs 2 h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hat in terms of shir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hat costs a half of a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3D0-FA05-41A8-A599-36E57290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3733920" y="838080"/>
            <a:ext cx="4876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= 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Units 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28600" y="838080"/>
            <a:ext cx="487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 Unit 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6"/>
          <p:cNvSpPr/>
          <p:nvPr/>
        </p:nvSpPr>
        <p:spPr>
          <a:xfrm>
            <a:off x="152280" y="685800"/>
            <a:ext cx="8991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onald McDonald can produce 20 pizzas or 200 burgers Papa John can produce 100 pizzas or 200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B066-5FE2-4E48-A1D4-4CEBD97FE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5105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nald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a John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pizz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20574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 10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1640" y="28954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10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952880" y="37339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s 2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200" y="45720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2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307800" y="0"/>
            <a:ext cx="8490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solute a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228600" y="685800"/>
            <a:ext cx="8915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that can produce the most output OR requires the least amount of inputs (resour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Papa John has an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bsolut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pizzas because he can produce 100 and Ronald can only make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with the lowest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Ronald has a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burgers because he has a lowest PER UNIT opportunity cos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6C87-C161-4A8C-8817-03EFBD16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813200"/>
            <a:ext cx="86104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untries should trade if they have a relatively lower opportunity cos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hould specialize in the good that is “cheaper” for them to 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914400" y="2666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Specialize and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CF3F-D706-462C-A699-92F95923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3:32:15Z</dcterms:created>
  <dc:creator>jclifford</dc:creator>
  <dc:description/>
  <dc:language>en-US</dc:language>
  <cp:lastModifiedBy>jclifford</cp:lastModifiedBy>
  <dcterms:modified xsi:type="dcterms:W3CDTF">2011-01-14T08:25:47Z</dcterms:modified>
  <cp:revision>75</cp:revision>
  <dc:subject/>
  <dc:title>AP Economics</dc:title>
</cp:coreProperties>
</file>